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  <p:sldId id="293" r:id="rId51"/>
    <p:sldId id="294" r:id="rId52"/>
    <p:sldId id="295" r:id="rId53"/>
    <p:sldId id="296" r:id="rId54"/>
    <p:sldId id="297" r:id="rId55"/>
    <p:sldId id="298" r:id="rId56"/>
    <p:sldId id="299" r:id="rId57"/>
    <p:sldId id="300" r:id="rId58"/>
    <p:sldId id="301" r:id="rId59"/>
    <p:sldId id="30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slide" Target="slides/slide38.xml"/><Relationship Id="rId52" Type="http://schemas.openxmlformats.org/officeDocument/2006/relationships/slide" Target="slides/slide39.xml"/><Relationship Id="rId53" Type="http://schemas.openxmlformats.org/officeDocument/2006/relationships/slide" Target="slides/slide40.xml"/><Relationship Id="rId54" Type="http://schemas.openxmlformats.org/officeDocument/2006/relationships/slide" Target="slides/slide41.xml"/><Relationship Id="rId55" Type="http://schemas.openxmlformats.org/officeDocument/2006/relationships/slide" Target="slides/slide42.xml"/><Relationship Id="rId56" Type="http://schemas.openxmlformats.org/officeDocument/2006/relationships/slide" Target="slides/slide43.xml"/><Relationship Id="rId57" Type="http://schemas.openxmlformats.org/officeDocument/2006/relationships/slide" Target="slides/slide44.xml"/><Relationship Id="rId58" Type="http://schemas.openxmlformats.org/officeDocument/2006/relationships/slide" Target="slides/slide45.xml"/><Relationship Id="rId59" Type="http://schemas.openxmlformats.org/officeDocument/2006/relationships/slide" Target="slides/slide46.xml"/><Relationship Id="rId60" Type="http://schemas.openxmlformats.org/officeDocument/2006/relationships/slide" Target="slides/slide4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5A4-C8A5-44BA-9942-7C6FE8F3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B1DB-79EF-4319-8CE6-FD50346B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D1923A-A51C-4EE4-BDC5-5F00F978D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7C5BC0-E292-40D1-9A62-2D6A7F2C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09C1E-92C0-4F6B-8ED6-687192B0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F6E6D1-2BB9-45E8-8D60-EA9AFDF15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62092-724F-4EB0-8A9E-981FF9C02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CE6D6-88B1-4B24-A9DB-EAAF913F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40CE3-BA94-45D1-858A-03E6C10A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7B4B6-63EF-40E8-B036-8AC4218D5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7D2F8-78CC-4CFB-B70E-25252D073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DFD1EA-8DF4-437D-859D-28B289908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0DF-6D7C-4F21-B233-E926ACB1A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2E93D-C973-4F99-8914-7480F2B3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9B06B-3C3C-4643-9D0F-D748D4F3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3DB6A7-E007-4FF6-85DF-E32E5A12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56D91B-2B8D-45EB-9A4C-6ED038D30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3D4BDD-A448-42C8-80BF-A405F0A6C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575601-9E60-4FC2-9C05-09692A0D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2B8C0D-34EE-4E13-A436-990E5AAC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F77A2-FA54-4218-9DE4-AB3DEF69F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D52D2E-43E4-4F89-91EC-F1F4F7A80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271AF-7B4F-424E-A9B7-0457E02A6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819B-9951-4520-9300-7DE951A93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44258-FF41-45CA-9D64-D30A757FB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31268-2BE1-45AB-8F2C-519ABE67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B5BA0-8398-4C05-B6D1-312891790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62A17B-A289-4EC2-9138-8C05A862E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5A00E5-6837-451A-B1CA-D3D82EDE8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D27F17-C876-4978-8E68-A98F73442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4E8B0-91DA-4C63-B26F-213FB28D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7705C-8F24-4CB8-B169-E0392FA2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8705C6-C57C-4555-B9DC-208A7CF3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A14D78-9F1C-4773-9667-97722F1A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BA0CC-175B-4031-BCF9-86C80FA6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C0BE47-0608-4879-A9E0-32D92038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446F3-FD2A-48E1-9C41-398A87E56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A3A301-CCDB-405A-B25F-7D3A82B97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D9E40-5434-42C4-9BF3-76B9EC564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3E6816-8B68-45A2-B153-A4A2C491D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8AD7CE-147F-4633-B117-9A13F1D6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EDCA4C-C1B3-46FE-9272-262EA69B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4318EA-9D49-4BCA-968A-F117128DA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BC8D48-5316-4993-84A4-6EF8D543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4D6ED8-30FD-4F86-AB90-282FFAC0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2BBA-47D3-4B32-A369-9B3B469D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1FC0F-A730-4973-B1FC-D8B77207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09401C-1928-4360-8DDC-65D49BB4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0C653B-EEA9-4E9F-B38A-5CD41C5A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CDC90C-7694-4FC4-B468-9475F62AC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4898B4-BEDC-423C-9C3A-8CDCC10E8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54D46-05D3-4ADD-B4F8-F449DBA68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4AC9F-A139-46E4-B521-10B04C46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C8E03-DD16-43BC-B37B-E0340D90A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23602-39DC-4340-B841-D43CB233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A94C-738F-4E1E-AD16-0B730774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D69-6E80-4F4B-B172-54200D9D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DBDF0-F02F-4A42-A31A-FE6F3FB0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3E546-54DD-4779-B420-FD22884BB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CF48-8DD6-40B7-A1FB-CF799329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7A80A-EF71-4E41-BC4C-0E96808F5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6B2E-F98F-4EF2-A2DF-D371A044C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64F17-EB6E-41BC-BB91-8BC49E6F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0E571-C4EF-462B-8077-C6AF0B32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D996B-EF8E-48D9-83EC-64CEA8AAA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95B614-1092-41E3-8455-CACA72E74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B0DD7-F76B-4C8D-940A-76E7391E1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098-5432-4518-8290-5C8C19FB4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E8C28-CF6E-49B3-BB7D-4AB0CDEF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21702-85DD-4CE2-A3C6-62BC83CE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6FE50-AD1D-4E47-9B58-1DB06BF06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6C19F-5849-47D7-9C79-409D95EF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54CC1-ABA7-4C0E-8D9B-37360EACD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FECE9-77B0-4A06-A468-3F39410A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95530-D69B-4E16-AAD8-85993807B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32D66-DD34-40A1-B4B9-BF781821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2C045-35A8-43EA-BBF4-0AEDB4F6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614DD-BF3A-46A8-B21E-A8F3F814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F21A-A42E-4164-9565-3D6885C4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2E9EA-4978-44FF-8585-C8C3A936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5E12E8-8989-4257-B511-E4B9F255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ABEEF-5FC4-4ACA-BB28-DC21A85C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7B13A7-9182-4AF8-B18E-F918AFC0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1EAF4-D0DA-4AD2-9504-974FB9B3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E50DC-327E-4F40-ADB6-9FB64BB0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C5942-44E7-4954-BF35-BF954DC6B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B73B2-3A5A-42FC-B7F6-3C278266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14A80-5F34-4901-A030-F7643E84B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995A90-B4B8-491F-B360-E16DE1630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6CA2-FDB8-4010-A0CA-C03DFE484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36F03-BF25-4137-B1BA-278E6D4C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989823-3D7E-4F9F-8024-B7D0047E3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6F3378-9F4A-439F-9E20-FC4CEDD8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E90E5-31F2-4FE8-B4B0-649FE3EF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DFE63-37BD-4E4B-B01D-3F05AB7B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B2E97-D00D-42DD-A2D9-05D48F022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6400F-DF22-4BCE-9E72-29BBE2CE0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9A8C48-2A06-4D34-9628-1C587CC7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82E01-CE80-4B1C-B305-ECF1231B7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38E12C-38E6-4E89-B07F-18FA22D2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9169-7174-44E3-9E58-B12F76663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5E6D6A-5492-49A0-A787-2D69EF04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A44877-A451-46A5-A325-4AAE1220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7D752-DA79-40E5-9A53-CF31015E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F6D9A-960B-4BBF-A41F-0E3F2322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EA1263-D375-4CF2-9BF2-0708A1831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F358A-2FD4-409A-B739-29C7166A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F6107-E213-4AAD-8B69-A5656E14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920B8-9D26-47F5-8FB2-64F4EFAF2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097A3-7AB2-48C7-89D4-BEA01058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DB2A3-C64C-4E32-A851-A56B67F8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BD26-0ABB-4090-9274-3019A969C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D09CF-3F65-45AC-8C84-E0E43BF8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C0BF0-29CC-4B8A-8D14-C41D5BD72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8693D-FB8C-427A-8868-6F7774B11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011A2-F0A5-4522-982C-CEB6759B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781DF-84C1-4FC6-A3E1-F003ED35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D33EB8-6F36-4BAD-B54D-C203C75A2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D08D9-63DD-46F8-8129-0965004F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3894B-3CED-4010-AFD7-D6398BD9D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8B942-C097-4E8E-B372-E17C326C6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4CDBB-94CC-48EE-B8CA-CC8B1315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F834-893A-4058-82F1-84DC07FE9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91646-096C-461B-A6B5-737DDE88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F64A45-120D-41B1-AE1B-4529BE6D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8C9940-08FB-49D5-8E15-68766E0F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D922E-75F2-4FA4-BF0C-9DA73D0AE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0667D-6331-4573-A8CC-B5315A17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2CE14-2C19-4A59-9B0C-570CBD42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81D3F-CF5F-4886-9870-BF1099BEA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2AF420-08C4-42CD-BD0A-21B0B281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262921-BF0B-477F-8AED-59914275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5278E3-381F-402C-9888-06F678437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2F16-F97C-4203-918B-E6547F90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25108E-34B3-44D6-AB16-3C2BCD48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98BB90-2195-43EF-8587-DA3C3729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95CE6-77DB-4456-BE85-0CAD5177E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56050E-7036-483E-BAC5-CFAB31C7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BA2FD-E40B-4F87-AAD3-7AACA25F1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4F4BE-F3D9-4A10-9DAB-A48537F15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A8BC9D-4A47-4B60-AD59-65D55847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9C84C-53C4-42E5-ADEF-F81923D08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52369-1286-4F4B-B8B4-86B9EF0C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5FDA9B-23B1-45B7-9904-C6FA5F82F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DFED-5AD6-4E17-A2F0-646E2956AF08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AB79-C5F8-459C-A0EF-DDABBDDDED04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7490-0ABC-489D-A60C-7505BA6DDF14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DBEC-8161-47A3-B2EA-2DC5A5C1216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EDDAE-2510-4166-8F6E-E1D216359F8F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63422-D8FA-4F9B-BF1E-395249F777F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B18D-F3C9-4A7E-8D7E-3F60D21F0EAD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CB11-6976-4F9D-B4E4-1B8AC98B738A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2275-1A74-4E79-9405-CC2A508EE5EB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EDC42-6404-441B-8BED-03AC19910D5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F6AD-3955-4588-A7D6-D530F3ADB473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0612-EEF0-4EB7-9051-46E50206C591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3EEF6-8E39-4E52-BE36-9AFE061A4756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3DE40-17DA-464E-8F87-899DBF177DB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0FA7-B445-44D1-BEBF-6979D67A4BD4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BA2A8-D7E5-417E-B9FB-DF533F03469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89410-556B-4E4E-BF1F-7173A75B2F4A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9055E-7942-4955-A367-7AF9D2A40F1B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254E-C1DE-4D82-9C9D-BA236C1C3548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7DD3-BF73-4F23-823D-1DF73917CF9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57EB-7204-4EBE-9CFA-62B4769A48B4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ED5CC-A8E0-45A7-9704-E4860FCDE355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BC3DE-D69F-42EA-BC45-E134C9BC4D33}" type="datetime3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July 28, 20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F30B9-D969-4CC8-AC9B-8F94B98966D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1640" y="167616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LES CONJUGAISON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1640" y="3203280"/>
            <a:ext cx="388620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ILS (REGARDER) ___________ TROP LA TÉLÉVISION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IL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ill Sans MT"/>
              </a:rPr>
              <a:t>REGARDENT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TROP LA TÉLÉVISION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d4d4d4"/>
              </a:solidFill>
              <a:uFillTx/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LES ENFANTS (OBÉIR) _____ À LEUR MÈRE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LES ENFANT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OBÉISSENT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À LEUR MÈRE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VOUS (NE PAS RÉPONDRE) ___ ______  ____ À MA QUESTION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VOUS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ill Sans MT"/>
              </a:rPr>
              <a:t>NE RÉPONDEZ PAS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À MA QUESTION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ELLE (PARLER) ______ COURAMMENT LE FRANÇAIS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ELL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ill Sans MT"/>
              </a:rPr>
              <a:t>PARLE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COURAMMENT LE FRANÇAIS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LE (ROUGIR) _____ FACILEMENT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L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ROUGIT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FACILEMENT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TU (ARRIVER) ____ À QUELLE HEURE?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TU (VENDRE) _____ TON AUTO?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TU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VENDS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TON AUTO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LES (JOUER) _____ AU FOOTBALL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LE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JOUENT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AU FOOTBALL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ILS (PERDRE) _____ DE L’ARGENT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IL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PERDENT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DE L’ARGENT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OÙ EST-CE QUE VOUS (HABITER) _______?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OÙ EST-CE QUE VOU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HABITEZ?</a:t>
            </a:r>
            <a:br>
              <a:rPr sz="6600"/>
            </a:b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IL (RÉFLÉCHIR) _____ TOUJOURS AVANT D’AGIR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I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RÉFLÉCHIT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TOUJOURS AVANT D’AGIR. 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TU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ARRIVES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À QUELLE HEURE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IL (ÉCOUTER) _________ BEAUCOUP LA RADIO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IL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ÉCOUTE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BEAUCOUP LA RADIO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ELLE (NE PAS RÉPONDRE) ____ ______  ____ À MES TEXTES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L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NE RÉPOND PAS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À MES TEXTES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OUS (AIMER) _____ CE FILM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OU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AIMONS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CE FILM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ELLE (CHANTER) _____ TRÈS BIEN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L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CHANTE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TRÈS BIEN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OUS (VIEILLIR) _____ TOUS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OU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VIEILLISSONS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TOUS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ELLE (CHOISIR) _____ UNE ROBE BLANCHE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JE (CONFONDRE) _____ TOUJOURS LES DEUX NOMS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JE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CONFONDS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TOUJOURS LES DEUX NOMS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ATTENTION! CE CHIEN (MORDRE) _____!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ATTENTION! CE CHIEN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MORD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!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OUS (NE PAS VENDRE) ____ ________   ____ DE SOULIERS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OU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NE VENDONS PAS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DE SOULIERS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ILS (APPLAUDIR) _____ L’ACTEUR.</a:t>
            </a:r>
            <a:br>
              <a:rPr sz="6600"/>
            </a:b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IL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APPLAUDISSENT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L’ACTEUR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ELLE 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Gill Sans MT"/>
              </a:rPr>
              <a:t>CHOISIT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UNE ROBE BLANCHE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NOUS (TRAVAILLER) ______ À PARIS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OUS </a:t>
            </a:r>
            <a:r>
              <a:rPr b="1" lang="en-US" sz="4000" spc="-1" strike="noStrike" u="sng">
                <a:solidFill>
                  <a:srgbClr val="ffffff"/>
                </a:solidFill>
                <a:uFillTx/>
                <a:latin typeface="Gill Sans MT"/>
              </a:rPr>
              <a:t>TRAVAILLONS</a:t>
            </a: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 À PARI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JE (ATTENDRE) _____ PIERRE DEPUIS DEUX HEURES.</a:t>
            </a:r>
            <a:br>
              <a:rPr sz="59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22160" y="363348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Gill Sans MT"/>
              </a:rPr>
              <a:t>J’ATTENDS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 PIERRE DEPUIS DEUX HEURES.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722160" y="213336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d4d4d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12:21:00Z</dcterms:created>
  <dc:creator>Sarah</dc:creator>
  <dc:description/>
  <dc:language>en-US</dc:language>
  <cp:lastModifiedBy>Biega, Sarah</cp:lastModifiedBy>
  <dcterms:modified xsi:type="dcterms:W3CDTF">2012-09-28T18:18:57Z</dcterms:modified>
  <cp:revision>7</cp:revision>
  <dc:subject/>
  <dc:title>Les conjugaisons</dc:title>
</cp:coreProperties>
</file>